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CCB-855A-42D4-A5DD-CB7C4D89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B5F6-B523-4A16-9087-E1340A71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D74-0250-4C55-9852-E5767B32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C6D-B7F1-4C64-998D-C6DEF54C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3C1E-10C0-4C76-87EA-747C53FB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DF4C-CD31-4E60-9881-2EE9F8B6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AD14-DCE6-40B9-951E-F23E8EB6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C383-95B7-452A-970D-355686FC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5A4A-6B99-471F-8680-CB91C834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1CC8-7520-4543-86C9-0CFE56A4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BBF6-9712-4980-8C83-D38538C5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A5C5-63FC-42C3-A20F-836C3FFF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1056-8BCC-4605-9B4B-84983F0D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90A8-74C4-4FEB-AAF5-9D7DBC66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A5E3-EE14-4378-8042-E97880BB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A6B5-995F-4CD2-95B6-5A53C456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75D2-8CE4-42E6-9AF3-095F831A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4285F-CDEA-4697-8687-6A60E5B8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6BD45-E8DF-46DF-9BE2-029B2A27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B2B7B-777C-4473-8351-630C1207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8704E-EFC6-4049-B762-885EE98D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B5611-CE74-4256-BB15-24F1A21A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0EF-A9AF-497A-A3FC-D65A83EA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BBC5C-9060-4E02-8995-D9925644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FD91C-3697-482D-9F6E-4F9140B8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88B31-0D73-4B38-84EE-BB21C268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80072-DA08-45BC-976F-43B8518E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47500-C216-4D95-BA12-8078FBF1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92A4D-FCFF-4C28-9CD1-116DEA6C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17B52-98B9-43BD-9876-02275522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0D5E4-7AC0-4868-8576-964CC42D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023DE-1EB6-4456-B798-EDB8310B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B1E91-C7EB-4B95-A618-7AC65A53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0AA-3B56-4EC5-B1B5-3C60934E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F64DF-556E-44F2-8300-9FC24A41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C8FF2-2906-4A0C-9659-0307397A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3EA25-8EF1-4746-8C44-BA37C551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D9592-173E-4B7E-B151-154F81BC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6C10F-E898-4F20-85D0-40D12821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7F7B3-4170-4C9A-8E09-0D49E626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3B4CC-3AD1-4220-8C0F-EDEB0218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C9747-2DED-404B-8143-5C0D15EA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B6572-D851-48B5-9CC2-01F1ACC2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1E94B-325A-441D-A90E-7EC7A12C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2848-7BFE-4872-8BD5-400A5B32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38B2A-870F-41C2-A7D1-B267F513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68CAB-FF09-440E-9E35-B3D979E4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DD0B2-03B8-4B50-B670-6A8D5C81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B67EB-F257-4C14-ADC6-7BB8D297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AFA8E-72E2-44CD-9046-639C8254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94EF2-B2EF-4A4D-B5E0-EE3DB87C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F5028-F77F-44C0-9E1B-91F48DFC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A824F-BB2B-428D-94E0-5C8FD34A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E94BE-B803-4615-A1EA-356F61A0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59063-F2E4-401D-BFB4-DF1C3BA7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B1F-B15E-437B-850B-727C67C3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9E636-5B87-4728-ABC9-BED3913D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94594-C5AD-4182-A2B2-C2522515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5ACD6-E793-4A0B-A2F4-18F23075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7A481-B7CB-4AF2-8521-E05966B2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7C562-80E0-4F43-A739-47B8A1C4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6EA4A-78CF-4C12-8881-C19E1AF6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6F0D0-CF8F-42BE-B99D-9B2634D1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8833D-DED0-4684-8374-FEF40D49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2B480-1C51-4186-B92F-C6CC4772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4E064-98B1-4C5D-AF0B-55BE78CB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49C0-2BF7-4B4A-B927-01207913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3F08F-1208-48E8-84CA-ADDB5CAA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A2F58-9A04-48E2-BF9E-088B16A6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7DA18-0154-45B0-8ECB-7ED63C7F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A42AB-5ADB-41E8-B029-739B7D20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F4E1F-A932-4C74-B33B-F9AE24BF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E0CDC-D11D-435E-8F49-310D4366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06A17-D3F9-4881-A124-3F1AC4E1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94138-5003-404B-BD0B-8C3EECC8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DAB87-7211-4C99-A67C-B8FA0B8C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F24AF-C119-4AAE-ADEC-F82E03E6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8F53-F130-4678-ACB6-236134F2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60139-C2D5-4562-A954-68E88073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CA80F-5D31-415A-ACAD-AF64424E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AE258-077A-450C-B82A-38F0FCC2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80EB6-6F81-437E-8D56-45D210E5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34D40-AA9E-4726-ABC0-AE234B19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EE0-6E9E-47C6-94BF-778651E1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B05B-9CCE-4571-BC3A-645AA3AB382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0CBF-E8BC-4CC7-82A5-4F9CE45C5C7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3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4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2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15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16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17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18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19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0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1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23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25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8975-02A4-4D80-92D9-D3FE83B062C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9B24-EFC1-44CD-AB50-D665BEA9037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104A-4779-4E68-84B6-76507471FF9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5A4A-49BD-47D6-BD73-9EEA99FB1FD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14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15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16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13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10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11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12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17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18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19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20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E459-FC41-4348-B39A-AF07F66954B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hapter 19 section 4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914400" y="609480"/>
            <a:ext cx="7772400" cy="57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Telescope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A device built to observe distant objects by making them appear clos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 1609, Italian scientist Galileo Galilei heard about a telescope and decided to make his own with two lenses in a wooden tub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lenses focused the light coming through the tub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1" name="Picture 2" descr="http://blogs.up.ac.za/jcp2008/media/blogs/TuineTeg3/telescope.jpg"/>
          <p:cNvPicPr/>
          <p:nvPr/>
        </p:nvPicPr>
        <p:blipFill>
          <a:blip r:embed="rId1"/>
          <a:stretch/>
        </p:blipFill>
        <p:spPr>
          <a:xfrm>
            <a:off x="3886200" y="3657600"/>
            <a:ext cx="32893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914400" y="533160"/>
            <a:ext cx="7772400" cy="58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Crater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rge round pits caused by impacts of meteoroids; some are hundreds of kilometers acro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Meteoroid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Chunks of rock or dust from spa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9144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alileo examined the irregular surface of the moon which include maria, craters, and highland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Maria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 The dark flat surface of hardened rock formed from huge lava flows from 3 to 4 billion years ag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maria have few craters compared to surrounding areas therefore most of the craters formed before the maria formed; most of moon’s surface has not changed for billions of year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914400" y="609480"/>
            <a:ext cx="7772400" cy="57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Highland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The mountains that cover much of the moon’s surface and cast dark shadows at the peak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5" name="Picture 5" descr="EarthMS_J31_Surface_sx5755a3"/>
          <p:cNvPicPr/>
          <p:nvPr/>
        </p:nvPicPr>
        <p:blipFill>
          <a:blip r:embed="rId1"/>
          <a:stretch/>
        </p:blipFill>
        <p:spPr>
          <a:xfrm>
            <a:off x="685800" y="2666880"/>
            <a:ext cx="778176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haracteristics of the Mo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294920"/>
            <a:ext cx="777240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09920" indent="-274320">
              <a:lnSpc>
                <a:spcPct val="8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moon is located about 384,000 kilometers from Earth (about 30 times Earth’s diameter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09920" indent="-274320">
              <a:lnSpc>
                <a:spcPct val="8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moon is dry and airless; compared to Earth, the moon is small and has large variations in surface temperat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09920" indent="-274320">
              <a:lnSpc>
                <a:spcPct val="8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, 476 kilometers in diameter (1/4 Earth’s diameter) but only 1/80 as much mass as Earth (=less dense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09920" indent="-274320">
              <a:lnSpc>
                <a:spcPct val="8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emperature ranges from 130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 in direct sunlight to -180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 at night because there is no atmosphere thus allowing gases to easily escape into spac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09920" indent="-274320">
              <a:lnSpc>
                <a:spcPct val="8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ile there is no liquid water, there is evidence that there may be large patches of ice near the moon’s pol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6" descr="EarthMS_J32_Size_sx5596a3"/>
          <p:cNvPicPr/>
          <p:nvPr/>
        </p:nvPicPr>
        <p:blipFill>
          <a:blip r:embed="rId1"/>
          <a:stretch/>
        </p:blipFill>
        <p:spPr>
          <a:xfrm>
            <a:off x="2819520" y="1371600"/>
            <a:ext cx="4626000" cy="45720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4"/>
          <p:cNvSpPr/>
          <p:nvPr/>
        </p:nvSpPr>
        <p:spPr>
          <a:xfrm>
            <a:off x="1143000" y="30492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moon is 3,476 km in diameter, a little less than the distance across the contiguous United State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Origins of the Mo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re are many possible theories, the best fit is the 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collision-ring theory.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bout 4.5 billion years ago, the solar system was full of rocky debris. Scientists theorize that a planet-sized object collided with Earth to form the moon, material was ejected into orbit around Earth, then gravity cause material to combine and form the moon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eeff"/>
                </a:solidFill>
                <a:latin typeface="Consolas"/>
              </a:rPr>
              <a:t>Scientists theorize that a planet-sized object collided with earth to form the moon.</a:t>
            </a:r>
            <a:br>
              <a:rPr sz="2800"/>
            </a:b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383" name="Group 12"/>
          <p:cNvGrpSpPr/>
          <p:nvPr/>
        </p:nvGrpSpPr>
        <p:grpSpPr>
          <a:xfrm>
            <a:off x="2286000" y="1600200"/>
            <a:ext cx="5105160" cy="4723920"/>
            <a:chOff x="2286000" y="1600200"/>
            <a:chExt cx="5105160" cy="4723920"/>
          </a:xfrm>
        </p:grpSpPr>
        <p:sp>
          <p:nvSpPr>
            <p:cNvPr id="384" name="Rectangle 11"/>
            <p:cNvSpPr/>
            <p:nvPr/>
          </p:nvSpPr>
          <p:spPr>
            <a:xfrm>
              <a:off x="2286000" y="1600200"/>
              <a:ext cx="5105160" cy="4723920"/>
            </a:xfrm>
            <a:prstGeom prst="rect">
              <a:avLst/>
            </a:pr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pic>
          <p:nvPicPr>
            <p:cNvPr id="385" name="Picture 10" descr="EarthMS_J33_Origin3_sx5597a3"/>
            <p:cNvPicPr/>
            <p:nvPr/>
          </p:nvPicPr>
          <p:blipFill>
            <a:blip r:embed="rId1"/>
            <a:stretch/>
          </p:blipFill>
          <p:spPr>
            <a:xfrm>
              <a:off x="2450880" y="1600200"/>
              <a:ext cx="4751640" cy="471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23:43:48Z</dcterms:created>
  <dc:creator>Falcon School District 49</dc:creator>
  <dc:description/>
  <dc:language>en-US</dc:language>
  <cp:lastModifiedBy>Falcon School District 49</cp:lastModifiedBy>
  <dcterms:modified xsi:type="dcterms:W3CDTF">2009-08-25T16:44:11Z</dcterms:modified>
  <cp:revision>6</cp:revision>
  <dc:subject/>
  <dc:title>The Earth’s Moon</dc:title>
</cp:coreProperties>
</file>